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9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31C3-D3B5-4EA3-BA83-6CF1F9F7F39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98B0-B586-43CD-AB82-1E0573058DF5}"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E0C42-1B17-4788-B3E0-FA346D549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C897-5F52-4AC0-8F0B-6A92F542E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84F29-552C-45BF-B628-596B73F65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F6F0B-F609-4C61-89EC-369E13BD0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7D437-31B9-40F6-A818-1BD0879E0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C967-E2DD-4FBE-AC3E-7626B0B1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415A-B6F0-4B8C-A3C3-198A29AD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6C261-EFCF-4510-8AD5-DD15E3A7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D826-57B9-412D-AB47-956A3E889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29E1-D782-42E5-9CFD-385CAE3E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4CBB-C6A4-47EE-82CD-1839EC7F2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1BA8D-9A99-45E1-9C52-DC7027252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BAC5-A215-4266-8AC1-364882D2A8B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BEBB-4717-4CE1-9AFF-C8200F2F12A8}"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557360"/>
            <a:ext cx="77724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Arial"/>
              </a:rPr>
              <a:t>COMERCIO ELECTRON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D8D4-0CA0-4FFA-B818-4EE5857A740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323640" y="274320"/>
            <a:ext cx="8569080" cy="13539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Relaciones jurídicas electrónicas internacionales</a:t>
            </a:r>
            <a:br>
              <a:rPr sz="3000"/>
            </a:br>
            <a:r>
              <a:rPr b="0" lang="es-MX" sz="2400" spc="-1" strike="noStrike">
                <a:solidFill>
                  <a:srgbClr val="009900"/>
                </a:solidFill>
                <a:latin typeface="Arial"/>
              </a:rPr>
              <a:t>Principios de la Conferencia de La Haya </a:t>
            </a:r>
            <a:br>
              <a:rPr sz="2400"/>
            </a:br>
            <a:r>
              <a:rPr b="0" lang="es-MX" sz="2400" spc="-1" strike="noStrike">
                <a:solidFill>
                  <a:srgbClr val="009900"/>
                </a:solidFill>
                <a:latin typeface="Arial"/>
              </a:rPr>
              <a:t>de Derecho Internacional Privado</a:t>
            </a:r>
            <a:endParaRPr b="0" lang="en-US" sz="2400" spc="-1" strike="noStrike">
              <a:solidFill>
                <a:srgbClr val="000000"/>
              </a:solidFill>
              <a:latin typeface="Arial"/>
            </a:endParaRPr>
          </a:p>
        </p:txBody>
      </p:sp>
      <p:sp>
        <p:nvSpPr>
          <p:cNvPr id="76" name="PlaceHolder 2"/>
          <p:cNvSpPr>
            <a:spLocks noGrp="1"/>
          </p:cNvSpPr>
          <p:nvPr>
            <p:ph/>
          </p:nvPr>
        </p:nvSpPr>
        <p:spPr>
          <a:xfrm>
            <a:off x="457200" y="1628280"/>
            <a:ext cx="8229600" cy="4969080"/>
          </a:xfrm>
          <a:prstGeom prst="rect">
            <a:avLst/>
          </a:prstGeom>
          <a:noFill/>
          <a:ln w="0">
            <a:noFill/>
          </a:ln>
        </p:spPr>
        <p:txBody>
          <a:bodyPr anchor="t">
            <a:normAutofit/>
          </a:bodyPr>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ios y procedimientos existentes: deben aplicarse por medio de la interpretación.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rmas sancionadas: deben ser neutrales tecnológicamente.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risdicción y ley aplicable a los contratos on-line:</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cumplimiento de la obligación principal fuera de la red: se deberían aplicar las reglas existentes de derecho internacional privado que se refieren al lugar de cumplimiento.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 cumplimiento de la obligación principal en la red: se deben aplicar las reglas del lugar en que se encuentran las partes involucradas.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acciones electrónicas entre empresas: Principio general sobre jurisdicción y ley aplicable: Autonomía de la volun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FE80-A057-4A74-951C-130318932E34}"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457200" y="476280"/>
            <a:ext cx="8229600" cy="564984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acciones entre empresas y consumidores: deben establecerse reglas de protección a los consumidores.</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ecesidad de identificación de las partes en la red.</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risdicción por hechos ilícitos: deben mantenerse los puntos de conexión del foro de la residencia habitual de la víctima o del demandado </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tección de datos: deben evitarse los sistemas que no aceptan estándares generales y aquellos que exigen un marco rígido para la recolección y transferencia de datos  </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s de seguridad: la necesaria confidencialidad no debe impedir el uso de formas electrónicas de transmisión </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canismos de resolución de disputas on-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8703-1E8C-43E1-B1BE-645444D3092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800080"/>
                </a:solidFill>
                <a:latin typeface="Arial"/>
              </a:rPr>
              <a:t>Resolución de Conflictos en el Comercio Electrónico</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ibunales judiciales o arbitr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alternativos del ICANN (Internet Corporation for Assigned Names and Numb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yberarbitraje  (Ej: E-Resolution, del Centro de Conciliación y Arbitraje Nacional e Internacional de la Cámara de de Comercio de Lima, Perú).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 adoptado por el anteproyecto argentino de ley de comercio electrónico: Procedimiento de arbitraje y sólo supletoriamente jurisdicción de los tribunales ordinar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43DA-1571-4E5A-A7EB-255DE26A0ED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00"/>
                </a:solidFill>
                <a:latin typeface="Arial"/>
              </a:rPr>
              <a:t>Propiedad Intelectual en el Comercio Electrónico</a:t>
            </a:r>
            <a:endParaRPr b="0" lang="en-US" sz="4000" spc="-1" strike="noStrike">
              <a:solidFill>
                <a:srgbClr val="000000"/>
              </a:solidFill>
              <a:latin typeface="Arial"/>
            </a:endParaRPr>
          </a:p>
        </p:txBody>
      </p:sp>
      <p:sp>
        <p:nvSpPr>
          <p:cNvPr id="84" name="PlaceHolder 2"/>
          <p:cNvSpPr>
            <a:spLocks noGrp="1"/>
          </p:cNvSpPr>
          <p:nvPr>
            <p:ph/>
          </p:nvPr>
        </p:nvSpPr>
        <p:spPr>
          <a:xfrm>
            <a:off x="457200" y="1916280"/>
            <a:ext cx="8229600" cy="4465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Conflictos entre el derecho marcario y el registro de dominios de Internet (“cybersquatting”)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fusión no autorizada en Internet de música y videos (webcasters – caso Napst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 Book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FBE4-CE59-4B8B-8A2E-D259B3AD5558}"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8000"/>
                </a:solidFill>
                <a:latin typeface="Arial"/>
              </a:rPr>
              <a:t>Problemas Tributarios en el Comercio Electrónico</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s de jurisdicción tributaria - Situaciones de doble imposición o de ausencia de imposició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ios clásicos del derecho tributario internacional no son aplicables al comercio electrónico: identificación precisa de las partes, existencia de territorios con límites claros, existencia de intermediarios que controlan y retienen los tributos, necesidad de registros comerciales precisos, aplicación de tributos sobre bienes físic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aboración de las “Condiciones Tributarias Marco” y el “Programa de Trabajo” del Comité de Asuntos Fiscales de la Organización para la Cooperación y Desarrollo Económic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asión fiscal por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F795-81D4-41A1-A6FC-5D2D8308BA47}"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8000"/>
                </a:solidFill>
                <a:latin typeface="Arial"/>
              </a:rPr>
              <a:t>Ley modelo de la UNCITRAL sobre Comercio Electrónico</a:t>
            </a:r>
            <a:endParaRPr b="0" lang="en-US" sz="4000" spc="-1" strike="noStrike">
              <a:solidFill>
                <a:srgbClr val="000000"/>
              </a:solidFill>
              <a:latin typeface="Arial"/>
            </a:endParaRPr>
          </a:p>
        </p:txBody>
      </p:sp>
      <p:sp>
        <p:nvSpPr>
          <p:cNvPr id="90" name="PlaceHolder 2"/>
          <p:cNvSpPr>
            <a:spLocks noGrp="1"/>
          </p:cNvSpPr>
          <p:nvPr>
            <p:ph/>
          </p:nvPr>
        </p:nvSpPr>
        <p:spPr>
          <a:xfrm>
            <a:off x="457200" y="1484280"/>
            <a:ext cx="8229600" cy="5113440"/>
          </a:xfrm>
          <a:prstGeom prst="rect">
            <a:avLst/>
          </a:prstGeom>
          <a:noFill/>
          <a:ln w="0">
            <a:noFill/>
          </a:ln>
        </p:spPr>
        <p:txBody>
          <a:bodyPr anchor="t">
            <a:normAutofit fontScale="96000"/>
          </a:bodyPr>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Ámbito de aplicación</a:t>
            </a:r>
            <a:r>
              <a:rPr b="0" lang="es-MX" sz="2300" spc="-1" strike="noStrike">
                <a:solidFill>
                  <a:srgbClr val="000000"/>
                </a:solidFill>
                <a:latin typeface="Arial"/>
              </a:rPr>
              <a:t>: Todo tipo de información en forma de mensaje de datos utilizada en el contexto de actividades comerciales. </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Mensaje de datos</a:t>
            </a:r>
            <a:r>
              <a:rPr b="0" lang="es-MX" sz="2300" spc="-1" strike="noStrike">
                <a:solidFill>
                  <a:srgbClr val="000000"/>
                </a:solidFill>
                <a:latin typeface="Arial"/>
              </a:rPr>
              <a:t>: La información generada, enviada, recibida o archivada  comunicada por medios electrónicos, ópticos o similares. </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Intercambio electrónico de datos</a:t>
            </a:r>
            <a:r>
              <a:rPr b="0" lang="es-MX" sz="2300" spc="-1" strike="noStrike">
                <a:solidFill>
                  <a:srgbClr val="000000"/>
                </a:solidFill>
                <a:latin typeface="Arial"/>
              </a:rPr>
              <a:t>: La transmisión electrónica de información de una computadora a otra, estando estructurada la información conforme a alguna norma técnica convenida al efecto.</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Principios interpretativos</a:t>
            </a:r>
            <a:r>
              <a:rPr b="0" lang="es-MX" sz="2300" spc="-1" strike="noStrike">
                <a:solidFill>
                  <a:srgbClr val="000000"/>
                </a:solidFill>
                <a:latin typeface="Arial"/>
              </a:rPr>
              <a:t>: Debe tenerse en cuenta su origen internacional, la necesidad de promover uniformidad en su aplicación y la observancia de la buena fe. </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Reconocimiento jurídico de los mensajes de datos</a:t>
            </a:r>
            <a:r>
              <a:rPr b="0" lang="es-MX" sz="2300" spc="-1" strike="noStrike">
                <a:solidFill>
                  <a:srgbClr val="000000"/>
                </a:solidFill>
                <a:latin typeface="Arial"/>
              </a:rPr>
              <a:t>: No puede negarse validez o efectos jurídicos a la información por el sólo hecho de encontrarse en forma de mensaje de dato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41F9-76F8-4515-B3F7-1787185037BA}"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p:nvPr>
        </p:nvSpPr>
        <p:spPr>
          <a:xfrm>
            <a:off x="250920" y="260280"/>
            <a:ext cx="8642160" cy="6337440"/>
          </a:xfrm>
          <a:prstGeom prst="rect">
            <a:avLst/>
          </a:prstGeom>
          <a:noFill/>
          <a:ln w="0">
            <a:noFill/>
          </a:ln>
        </p:spPr>
        <p:txBody>
          <a:bodyPr anchor="t">
            <a:normAutofit fontScale="97000"/>
          </a:bodyPr>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Admisibilidad y fuerza probatoria del mensaje de datos</a:t>
            </a:r>
            <a:r>
              <a:rPr b="0" lang="es-MX" sz="2300" spc="-1" strike="noStrike">
                <a:solidFill>
                  <a:srgbClr val="000000"/>
                </a:solidFill>
                <a:latin typeface="Arial"/>
              </a:rPr>
              <a:t>: No se aplicarán las normativas que impidan la admisión de este tipo de prueba solamente por tratarse de un mensaje de datos o haber sido presentado en su forma original. </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Conservación de documentos o informaciones</a:t>
            </a:r>
            <a:r>
              <a:rPr b="0" lang="es-MX" sz="2300" spc="-1" strike="noStrike">
                <a:solidFill>
                  <a:srgbClr val="000000"/>
                </a:solidFill>
                <a:latin typeface="Arial"/>
              </a:rPr>
              <a:t>: El requisito legal queda satisfecho mediante la conservación de los mensajes de datos si: la información es accesible para su ulterior consulta; el mensaje de datos haya sido conservado en el formato en que se haya generado, enviado o recibido; y que se conserve todo dato que permita determinar el origen y destino del mensaje, la fecha y hora en que fue enviado o recibido.</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Formación y validez del consentimiento contractual</a:t>
            </a:r>
            <a:r>
              <a:rPr b="0" lang="es-MX" sz="2300" spc="-1" strike="noStrike">
                <a:solidFill>
                  <a:srgbClr val="000000"/>
                </a:solidFill>
                <a:latin typeface="Arial"/>
              </a:rPr>
              <a:t>: La oferta y su aceptación podrán ser expresadas por medio de un mensaje de datos. </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Manifestación de voluntad mediante un mensaje de datos</a:t>
            </a:r>
            <a:r>
              <a:rPr b="0" lang="es-MX" sz="2300" spc="-1" strike="noStrike">
                <a:solidFill>
                  <a:srgbClr val="000000"/>
                </a:solidFill>
                <a:latin typeface="Arial"/>
              </a:rPr>
              <a:t>: No se puede negar su validez o fuerza obligatoria. </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Lugar de expedición del mensaje de datos</a:t>
            </a:r>
            <a:r>
              <a:rPr b="0" lang="es-MX" sz="2300" spc="-1" strike="noStrike">
                <a:solidFill>
                  <a:srgbClr val="000000"/>
                </a:solidFill>
                <a:latin typeface="Arial"/>
              </a:rPr>
              <a:t>: Salvo que se convenga otra cosa entre iniciador y destinatario, se tendrá por expedido en el lugar donde el iniciador tenga su establecimiento y por recibido en el lugar donde el destinatario tenga el suyo.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B5F7-D6F8-4BDC-A46B-15027682D06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0080"/>
                </a:solidFill>
                <a:latin typeface="Arial"/>
              </a:rPr>
              <a:t>Anteproyecto de Ley de Comercio Electrónico en la Argentina</a:t>
            </a:r>
            <a:endParaRPr b="0" lang="en-US" sz="3200" spc="-1" strike="noStrike">
              <a:solidFill>
                <a:srgbClr val="000000"/>
              </a:solidFill>
              <a:latin typeface="Arial"/>
            </a:endParaRPr>
          </a:p>
        </p:txBody>
      </p:sp>
      <p:sp>
        <p:nvSpPr>
          <p:cNvPr id="95" name="PlaceHolder 2"/>
          <p:cNvSpPr>
            <a:spLocks noGrp="1"/>
          </p:cNvSpPr>
          <p:nvPr>
            <p:ph/>
          </p:nvPr>
        </p:nvSpPr>
        <p:spPr>
          <a:xfrm>
            <a:off x="324000" y="1341360"/>
            <a:ext cx="8496000" cy="5183280"/>
          </a:xfrm>
          <a:prstGeom prst="rect">
            <a:avLst/>
          </a:prstGeom>
          <a:noFill/>
          <a:ln w="0">
            <a:noFill/>
          </a:ln>
        </p:spPr>
        <p:txBody>
          <a:bodyPr anchor="t">
            <a:normAutofit fontScale="95000"/>
          </a:bodyPr>
          <a:p>
            <a:pPr marL="325800" indent="-325800" algn="just">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apítulo III - Comunicación digital</a:t>
            </a:r>
            <a:r>
              <a:rPr b="0" lang="es-MX" sz="2400" spc="-1" strike="noStrike">
                <a:solidFill>
                  <a:srgbClr val="000000"/>
                </a:solidFill>
                <a:latin typeface="Arial"/>
              </a:rPr>
              <a:t> </a:t>
            </a:r>
            <a:endParaRPr b="0" lang="en-US" sz="2400" spc="-1" strike="noStrike">
              <a:solidFill>
                <a:srgbClr val="000000"/>
              </a:solidFill>
              <a:latin typeface="Arial"/>
            </a:endParaRPr>
          </a:p>
          <a:p>
            <a:pPr marL="325800" indent="-325800" algn="just">
              <a:lnSpc>
                <a:spcPct val="80000"/>
              </a:lnSpc>
              <a:spcBef>
                <a:spcPts val="60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9933"/>
                </a:solidFill>
                <a:latin typeface="Arial"/>
              </a:rPr>
              <a:t>Tiempo de expedición</a:t>
            </a:r>
            <a:r>
              <a:rPr b="0" lang="es-MX" sz="2400" spc="-1" strike="noStrike">
                <a:solidFill>
                  <a:srgbClr val="000000"/>
                </a:solidFill>
                <a:latin typeface="Arial"/>
              </a:rPr>
              <a:t>: Cuando salga de un sistema que esté bajo el control del iniciador o de la persona que envió la comunicación en nombre del iniciado o de la persona que la envió a su nombre. </a:t>
            </a:r>
            <a:endParaRPr b="0" lang="en-US" sz="2400" spc="-1" strike="noStrike">
              <a:solidFill>
                <a:srgbClr val="000000"/>
              </a:solidFill>
              <a:latin typeface="Arial"/>
            </a:endParaRPr>
          </a:p>
          <a:p>
            <a:pPr marL="325800" indent="-325800" algn="just">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Localización de las comunicaciones digitales</a:t>
            </a:r>
            <a:r>
              <a:rPr b="0" lang="es-MX" sz="2400" spc="-1" strike="noStrike">
                <a:solidFill>
                  <a:srgbClr val="000000"/>
                </a:solidFill>
                <a:latin typeface="Arial"/>
              </a:rPr>
              <a:t>: Se tendrán expedidas en el lugar donde el iniciador tenga su domicilio legal y por recibidas en el lugar donde el destinatario tenga el suyo. </a:t>
            </a:r>
            <a:endParaRPr b="0" lang="en-US" sz="2400" spc="-1" strike="noStrike">
              <a:solidFill>
                <a:srgbClr val="000000"/>
              </a:solidFill>
              <a:latin typeface="Arial"/>
            </a:endParaRPr>
          </a:p>
          <a:p>
            <a:pPr marL="325800" indent="-325800" algn="just">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apítulo IV – Contratos electrónicos</a:t>
            </a:r>
            <a:endParaRPr b="0" lang="en-US" sz="2400" spc="-1" strike="noStrike">
              <a:solidFill>
                <a:srgbClr val="000000"/>
              </a:solidFill>
              <a:latin typeface="Arial"/>
            </a:endParaRPr>
          </a:p>
          <a:p>
            <a:pPr marL="325800" indent="-325800" algn="just">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Principio general</a:t>
            </a:r>
            <a:r>
              <a:rPr b="0" lang="es-MX" sz="2400" spc="-1" strike="noStrike">
                <a:solidFill>
                  <a:srgbClr val="000000"/>
                </a:solidFill>
                <a:latin typeface="Arial"/>
              </a:rPr>
              <a:t>: Los contratos tanto civiles como comerciales pueden celebrarse válidamente por medios digitales. </a:t>
            </a:r>
            <a:endParaRPr b="0" lang="en-US" sz="2400" spc="-1" strike="noStrike">
              <a:solidFill>
                <a:srgbClr val="000000"/>
              </a:solidFill>
              <a:latin typeface="Arial"/>
            </a:endParaRPr>
          </a:p>
          <a:p>
            <a:pPr marL="325800" indent="-325800" algn="just">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Oferta de bienes, servicios e informaciones por medios digitales</a:t>
            </a:r>
            <a:r>
              <a:rPr b="0" lang="es-MX" sz="2400" spc="-1" strike="noStrike">
                <a:solidFill>
                  <a:srgbClr val="000000"/>
                </a:solidFill>
                <a:latin typeface="Arial"/>
              </a:rPr>
              <a:t>: Deben cumplir con las condiciones generales y específicas impuestas por la ley, realizarse en un marco técnicamente seguro y debidamente certifica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C8FD-592B-4DE0-89E1-DC14A18B2E1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Arial"/>
              </a:rPr>
              <a:t>Normas vinculadas al Comercio Electrónico en el Derecho Argentino</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s 554/97 y 1018/98</a:t>
            </a:r>
            <a:r>
              <a:rPr b="0" lang="es-MX" sz="2400" spc="-1" strike="noStrike">
                <a:solidFill>
                  <a:srgbClr val="000000"/>
                </a:solidFill>
                <a:latin typeface="Arial"/>
              </a:rPr>
              <a:t> - El Estado argentino declaró el acceso a Internet como de interés nacional.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 1279/97</a:t>
            </a:r>
            <a:r>
              <a:rPr b="0" lang="es-MX" sz="2400" spc="-1" strike="noStrike">
                <a:solidFill>
                  <a:srgbClr val="000000"/>
                </a:solidFill>
                <a:latin typeface="Arial"/>
              </a:rPr>
              <a:t> - Se declaró que el servicio de Internet se considera comprendido dentro de la garantía constitucional de la libertad de expresión.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 427/98 y las Resoluciones 194/98, y 212/98</a:t>
            </a:r>
            <a:r>
              <a:rPr b="0" lang="es-MX" sz="2400" spc="-1" strike="noStrike">
                <a:solidFill>
                  <a:srgbClr val="000000"/>
                </a:solidFill>
                <a:latin typeface="Arial"/>
              </a:rPr>
              <a:t> - Introduce a la firma digital dentro del ámbito de la Administración Pública.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 1023/2001</a:t>
            </a:r>
            <a:r>
              <a:rPr b="0" lang="es-MX" sz="2400" spc="-1" strike="noStrike">
                <a:solidFill>
                  <a:srgbClr val="000000"/>
                </a:solidFill>
                <a:latin typeface="Arial"/>
              </a:rPr>
              <a:t> - Regula las contrataciones públicas electrónicas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Ley 25.506 y Decreto reglamentario 2628/2002</a:t>
            </a:r>
            <a:r>
              <a:rPr b="0" lang="es-MX" sz="2400" spc="-1" strike="noStrike">
                <a:solidFill>
                  <a:srgbClr val="000000"/>
                </a:solidFill>
                <a:latin typeface="Arial"/>
              </a:rPr>
              <a:t> – Declara la validez de la firma digital, la firma electrónica y el documento electr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53A6-A40C-499D-99D5-E9388D69F070}"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ff0000"/>
                </a:solidFill>
                <a:latin typeface="Arial"/>
              </a:rPr>
              <a:t>¿Qué es el Contrato Electrónico?</a:t>
            </a:r>
            <a:endParaRPr b="0" lang="en-US" sz="4200" spc="-1" strike="noStrike">
              <a:solidFill>
                <a:srgbClr val="000000"/>
              </a:solidFill>
              <a:latin typeface="Arial"/>
            </a:endParaRPr>
          </a:p>
        </p:txBody>
      </p:sp>
      <p:sp>
        <p:nvSpPr>
          <p:cNvPr id="101"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a:t>
            </a:r>
            <a:r>
              <a:rPr b="0" lang="es-MX" sz="2600" spc="-1" strike="noStrike">
                <a:solidFill>
                  <a:srgbClr val="000000"/>
                </a:solidFill>
                <a:latin typeface="Arial"/>
              </a:rPr>
              <a:t>El contrato electrónico es el intercambio telemático de información entre personas que da a una relación comercial, consistente en la entrega en línea de bienes intangibles o en un pedido electrónico de bienes tangibles”. </a:t>
            </a:r>
            <a:endParaRPr b="0" lang="en-US" sz="2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1800" spc="-1" strike="noStrike">
                <a:solidFill>
                  <a:srgbClr val="000000"/>
                </a:solidFill>
                <a:latin typeface="Arial"/>
              </a:rPr>
              <a:t>(Jijena Leiva, Renato Javier. “Comercio electrónico y derecho. La problemática jurídica del comercio electrónico”)</a:t>
            </a:r>
            <a:endParaRPr b="0" lang="en-US" sz="18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a:t>
            </a:r>
            <a:r>
              <a:rPr b="0" lang="es-MX" sz="2600" spc="-1" strike="noStrike">
                <a:solidFill>
                  <a:srgbClr val="000000"/>
                </a:solidFill>
                <a:latin typeface="Arial"/>
              </a:rPr>
              <a:t>Se denomina contratación electrónica o por medios informáticos, a la que se realiza mediante la utilización de algún elemento electrónico, con influencia decisiva, real y directa sobre la formación de la voluntad, el desenvolvimiento o la interpretación de un acuerd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1800" spc="-1" strike="noStrike">
                <a:solidFill>
                  <a:srgbClr val="000000"/>
                </a:solidFill>
                <a:latin typeface="Arial"/>
              </a:rPr>
              <a:t>(Brizzio, Claudia R. Contratación electrónica y contratos informáticos. La Ley. T.2000-A, Sec. Doctrina)</a:t>
            </a: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9AA4-DC0D-45F8-B969-3448CA282ECB}"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EVOLUCION DEL COMERCIO</a:t>
            </a:r>
            <a:endParaRPr b="0" lang="en-US" sz="3200" spc="-1" strike="noStrike">
              <a:solidFill>
                <a:srgbClr val="000000"/>
              </a:solidFill>
              <a:latin typeface="Arial"/>
            </a:endParaRPr>
          </a:p>
        </p:txBody>
      </p:sp>
      <p:sp>
        <p:nvSpPr>
          <p:cNvPr id="5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ja Edad Media – Nacimiento del Derecho Mercant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rcados y Ferias – Expansión del Comer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rfeccionamiento del transporte y las comunicaciones – Internacionalización del Comer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unicación a distancia en forma simultánea (Teléfono, Fax)  – Surgimiento del Comercio Electrón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fusión de Internet – Expansión del Comercio Electrónico por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997B-0134-49B9-8DDC-0E509AADD2A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Aspectos Generales sobre los Contratos Electrónicos</a:t>
            </a:r>
            <a:endParaRPr b="0" lang="en-US" sz="4000" spc="-1" strike="noStrike">
              <a:solidFill>
                <a:srgbClr val="000000"/>
              </a:solidFill>
              <a:latin typeface="Arial"/>
            </a:endParaRPr>
          </a:p>
        </p:txBody>
      </p:sp>
      <p:sp>
        <p:nvSpPr>
          <p:cNvPr id="10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 celebrado por medios electrónicos: es ante todo un contrato (art. 1137 del Código Civil).</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de adhesió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on plenamente aplicables las normas referentes a los contratos civiles, comerciales y de consumo.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lases de contratos electrónicos: contratos entre empresas, contratos entre empresas y consumidores, y contratos entre consumidore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lectrónicos totales o par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6E94-DEA5-4137-B32A-03628FCC00D9}"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9933"/>
                </a:solidFill>
                <a:latin typeface="Arial"/>
              </a:rPr>
              <a:t>Elementos del Contrato Electrónico</a:t>
            </a:r>
            <a:endParaRPr b="0" lang="en-US" sz="4000" spc="-1" strike="noStrike">
              <a:solidFill>
                <a:srgbClr val="000000"/>
              </a:solidFill>
              <a:latin typeface="Arial"/>
            </a:endParaRPr>
          </a:p>
        </p:txBody>
      </p:sp>
      <p:sp>
        <p:nvSpPr>
          <p:cNvPr id="107"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resupuesto de validez: Capacida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onsentimiento Onlin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Objet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us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2410-E97C-45C7-AF60-064ADD992D15}"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Arial"/>
              </a:rPr>
              <a:t>Capacidad</a:t>
            </a:r>
            <a:endParaRPr b="0" lang="en-US" sz="4000" spc="-1" strike="noStrike">
              <a:solidFill>
                <a:srgbClr val="000000"/>
              </a:solidFill>
              <a:latin typeface="Arial"/>
            </a:endParaRPr>
          </a:p>
        </p:txBody>
      </p:sp>
      <p:sp>
        <p:nvSpPr>
          <p:cNvPr id="110" name="PlaceHolder 2"/>
          <p:cNvSpPr>
            <a:spLocks noGrp="1"/>
          </p:cNvSpPr>
          <p:nvPr>
            <p:ph/>
          </p:nvPr>
        </p:nvSpPr>
        <p:spPr>
          <a:xfrm>
            <a:off x="456840" y="907920"/>
            <a:ext cx="8435880" cy="5950080"/>
          </a:xfrm>
          <a:prstGeom prst="rect">
            <a:avLst/>
          </a:prstGeom>
          <a:noFill/>
          <a:ln w="0">
            <a:noFill/>
          </a:ln>
        </p:spPr>
        <p:txBody>
          <a:bodyPr anchor="t">
            <a:normAutofit/>
          </a:bodyPr>
          <a:p>
            <a:pPr marL="343080" indent="-343080" algn="just">
              <a:lnSpc>
                <a:spcPct val="9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Arial"/>
              </a:rPr>
              <a:t>Problema</a:t>
            </a:r>
            <a:r>
              <a:rPr b="0" lang="es-MX" sz="2600" spc="-1" strike="noStrike">
                <a:solidFill>
                  <a:srgbClr val="000000"/>
                </a:solidFill>
                <a:latin typeface="Arial"/>
              </a:rPr>
              <a:t>: dificultad para identificar a las partes</a:t>
            </a:r>
            <a:endParaRPr b="0" lang="en-US" sz="2600" spc="-1" strike="noStrike">
              <a:solidFill>
                <a:srgbClr val="000000"/>
              </a:solidFill>
              <a:latin typeface="Arial"/>
            </a:endParaRPr>
          </a:p>
          <a:p>
            <a:pPr marL="343080" indent="-343080" algn="just">
              <a:lnSpc>
                <a:spcPct val="9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Arial"/>
              </a:rPr>
              <a:t>Sistemas de identificación</a:t>
            </a:r>
            <a:r>
              <a:rPr b="0" lang="es-MX" sz="2600" spc="-1" strike="noStrike">
                <a:solidFill>
                  <a:srgbClr val="000000"/>
                </a:solidFill>
                <a:latin typeface="Arial"/>
              </a:rPr>
              <a:t>: (i) la tarjeta magnética (existe riesgo que sea utilizado por otro sujeto); (ii) la clave magnética; (iii) el número de código (puede ser utilizado por otro sujeto); (iv) la palabra de orden; (v) el reconocimiento del timbre de la voz (si se lo combina con otros métodos); (vi) la impresión digital; (vii) el reconocimiento y memorización de la firma del usuario; y (viii) la firma digital, con los efectos jurídicos que produce en nuestro derecho presumiendo la autoría del mensaje (ley 25.506).</a:t>
            </a:r>
            <a:endParaRPr b="0" lang="en-US" sz="2600" spc="-1" strike="noStrike">
              <a:solidFill>
                <a:srgbClr val="000000"/>
              </a:solidFill>
              <a:latin typeface="Arial"/>
            </a:endParaRPr>
          </a:p>
          <a:p>
            <a:pPr marL="343080" indent="-343080" algn="just">
              <a:lnSpc>
                <a:spcPct val="9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Arial"/>
              </a:rPr>
              <a:t>Contratos internacionales</a:t>
            </a:r>
            <a:r>
              <a:rPr b="0" lang="es-MX" sz="2600" spc="-1" strike="noStrike">
                <a:solidFill>
                  <a:srgbClr val="000000"/>
                </a:solidFill>
                <a:latin typeface="Arial"/>
              </a:rPr>
              <a:t>: Norma de conflicto aplicable determina el derecho que rige la capacidad de la persona. Derecho argentino: se regula por la ley de domicilio de la persona (art. 6 y 7 Cod. Civ.) </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6C61-60A1-4C8E-8983-5691E13E41A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800080"/>
                </a:solidFill>
                <a:latin typeface="Arial"/>
              </a:rPr>
              <a:t>Consentimiento Online</a:t>
            </a:r>
            <a:endParaRPr b="0" lang="en-US" sz="4400" spc="-1" strike="noStrike">
              <a:solidFill>
                <a:srgbClr val="000000"/>
              </a:solidFill>
              <a:latin typeface="Arial"/>
            </a:endParaRPr>
          </a:p>
        </p:txBody>
      </p:sp>
      <p:sp>
        <p:nvSpPr>
          <p:cNvPr id="113"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ferta y Aceptación: Manifestaciones de la voluntad suelen ser expresadas por medios digitales entre personas comunicadas por sistemas informáticos interconectad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ferencias entre la oferta y la invitación a ofertar.</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erfeccionamiento del consentimiento por correo electrónico: se utilizan las reglas aplicables a los contratos entre ausentes. </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18A0-D56D-45BF-8772-E7EAE67F56B7}"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3399"/>
                </a:solidFill>
                <a:latin typeface="Arial"/>
              </a:rPr>
              <a:t>Oferta Electrónica</a:t>
            </a:r>
            <a:endParaRPr b="0" lang="en-US" sz="4400" spc="-1" strike="noStrike">
              <a:solidFill>
                <a:srgbClr val="000000"/>
              </a:solidFill>
              <a:latin typeface="Arial"/>
            </a:endParaRPr>
          </a:p>
        </p:txBody>
      </p:sp>
      <p:sp>
        <p:nvSpPr>
          <p:cNvPr id="116" name="PlaceHolder 2"/>
          <p:cNvSpPr>
            <a:spLocks noGrp="1"/>
          </p:cNvSpPr>
          <p:nvPr>
            <p:ph/>
          </p:nvPr>
        </p:nvSpPr>
        <p:spPr>
          <a:xfrm>
            <a:off x="250920" y="1196640"/>
            <a:ext cx="8642160" cy="532764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2600" spc="-1" strike="noStrike">
                <a:solidFill>
                  <a:srgbClr val="000000"/>
                </a:solidFill>
                <a:latin typeface="Arial"/>
              </a:rPr>
              <a:t>En el Derecho Argentino se aplican los principios generales:</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	</a:t>
            </a:r>
            <a:r>
              <a:rPr b="0" lang="es-MX" sz="2600" spc="-1" strike="noStrike">
                <a:solidFill>
                  <a:srgbClr val="339933"/>
                </a:solidFill>
                <a:latin typeface="Arial"/>
              </a:rPr>
              <a:t>a) </a:t>
            </a:r>
            <a:r>
              <a:rPr b="0" lang="es-MX" sz="2600" spc="-1" strike="noStrike" u="sng">
                <a:solidFill>
                  <a:srgbClr val="339933"/>
                </a:solidFill>
                <a:uFillTx/>
                <a:latin typeface="Arial"/>
              </a:rPr>
              <a:t>Contratos civiles</a:t>
            </a:r>
            <a:r>
              <a:rPr b="0" lang="es-MX" sz="2600" spc="-1" strike="noStrike">
                <a:solidFill>
                  <a:srgbClr val="339933"/>
                </a:solidFill>
                <a:latin typeface="Arial"/>
              </a:rPr>
              <a:t>:</a:t>
            </a:r>
            <a:r>
              <a:rPr b="0" lang="es-MX" sz="2600" spc="-1" strike="noStrike">
                <a:solidFill>
                  <a:srgbClr val="000000"/>
                </a:solidFill>
                <a:latin typeface="Arial"/>
              </a:rPr>
              <a:t> El art. 1148 del Código Civil establece que “para que haya promesa, ésta debe ser a persona o personas determinadas sobre un contrato especial, con todos los antecedentes constitutivos de los contratos”.</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	</a:t>
            </a:r>
            <a:r>
              <a:rPr b="0" lang="es-MX" sz="2600" spc="-1" strike="noStrike">
                <a:solidFill>
                  <a:srgbClr val="339933"/>
                </a:solidFill>
                <a:latin typeface="Arial"/>
              </a:rPr>
              <a:t>b) </a:t>
            </a:r>
            <a:r>
              <a:rPr b="0" lang="es-MX" sz="2600" spc="-1" strike="noStrike" u="sng">
                <a:solidFill>
                  <a:srgbClr val="339933"/>
                </a:solidFill>
                <a:uFillTx/>
                <a:latin typeface="Arial"/>
              </a:rPr>
              <a:t>Contratos comerciales</a:t>
            </a:r>
            <a:r>
              <a:rPr b="0" lang="es-MX" sz="2600" spc="-1" strike="noStrike">
                <a:solidFill>
                  <a:srgbClr val="339933"/>
                </a:solidFill>
                <a:latin typeface="Arial"/>
              </a:rPr>
              <a:t>:</a:t>
            </a:r>
            <a:r>
              <a:rPr b="0" lang="es-MX" sz="2600" spc="-1" strike="noStrike">
                <a:solidFill>
                  <a:srgbClr val="000000"/>
                </a:solidFill>
                <a:latin typeface="Arial"/>
              </a:rPr>
              <a:t> El art. 454 del Código de Comercio establece que “las ofertas indeterminadas, contenidas en un prospecto o en una circular, no obligan al que las ha hecho”.</a:t>
            </a:r>
            <a:r>
              <a:rPr b="0" lang="es-MX"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5D9D-099A-4B3A-ADAB-D65D4C502052}"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9933"/>
                </a:solidFill>
                <a:latin typeface="Arial"/>
              </a:rPr>
              <a:t>c) </a:t>
            </a:r>
            <a:r>
              <a:rPr b="0" lang="es-MX" sz="2800" spc="-1" strike="noStrike" u="sng">
                <a:solidFill>
                  <a:srgbClr val="339933"/>
                </a:solidFill>
                <a:uFillTx/>
                <a:latin typeface="Arial"/>
              </a:rPr>
              <a:t>Contratos de consumo</a:t>
            </a:r>
            <a:r>
              <a:rPr b="0" lang="es-MX" sz="2800" spc="-1" strike="noStrike">
                <a:solidFill>
                  <a:srgbClr val="000000"/>
                </a:solidFill>
                <a:latin typeface="Arial"/>
              </a:rPr>
              <a:t>: El art. 7 de la ley 24.240 dispone que “la oferta dirigida a consumidores potenciales indeterminados, obliga a quien la emite durante el tiempo en que se realice, debiendo contener la fecha precisa de comienzo y de finalización, así como también sus modalidades, condiciones o limitaciones”. Además, “las precisiones formuladas en la publicidad, o en anuncios, prospectos, circulares, u otros medios de difusión obligan al oferente y se tienen por incluidas en el contrato con el consumidor” (art. 8). Por último, conforme el art. 34, el consumidor puede revocar su aceptación durante el plazo de 5 días corridos a partir de que se entrega la cosa o se celebre el contrato sin responsabilidad algun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A32C-6918-42FC-B3FC-919482EDC24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6600"/>
                </a:solidFill>
                <a:latin typeface="Arial"/>
              </a:rPr>
              <a:t>Perfeccionamiento del Consentimiento Online</a:t>
            </a:r>
            <a:endParaRPr b="0" lang="en-US" sz="3200" spc="-1" strike="noStrike">
              <a:solidFill>
                <a:srgbClr val="000000"/>
              </a:solidFill>
              <a:latin typeface="Arial"/>
            </a:endParaRPr>
          </a:p>
        </p:txBody>
      </p:sp>
      <p:sp>
        <p:nvSpPr>
          <p:cNvPr id="121" name="PlaceHolder 2"/>
          <p:cNvSpPr>
            <a:spLocks noGrp="1"/>
          </p:cNvSpPr>
          <p:nvPr>
            <p:ph/>
          </p:nvPr>
        </p:nvSpPr>
        <p:spPr>
          <a:xfrm>
            <a:off x="250920" y="1267920"/>
            <a:ext cx="8642160" cy="52563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lectrónicos: ¿Se trata de contratos entre presentes o entre ausent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ntre presentes: inmediatez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ntre ausentes: Teorías sobre su perfeccionamiento: (i) de la manifestación; (ii) del conocimiento; (iii) de la emisión y; (iv) de la recepció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Código Civil: </a:t>
            </a:r>
            <a:r>
              <a:rPr b="0" lang="es-MX" sz="2800" spc="-1" strike="noStrike" u="sng">
                <a:solidFill>
                  <a:srgbClr val="ff0000"/>
                </a:solidFill>
                <a:uFillTx/>
                <a:latin typeface="Arial"/>
              </a:rPr>
              <a:t>Teoría de la Emisión</a:t>
            </a: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Dos excepciones (Teoría de la Información):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 retractación válida de la oferta antes que llegue a conocimiento del oferent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b) caducidad por muerte o incapac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AA20-B389-437E-998D-895A51635CAB}"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gn="just">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Momento de celebración</a:t>
            </a:r>
            <a:r>
              <a:rPr b="0" lang="es-MX" sz="2800" spc="-1" strike="noStrike">
                <a:solidFill>
                  <a:srgbClr val="000000"/>
                </a:solidFill>
                <a:latin typeface="Arial"/>
              </a:rPr>
              <a:t>: Contrato entre presente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Lugar de celebración</a:t>
            </a:r>
            <a:r>
              <a:rPr b="0" lang="es-MX" sz="2800" spc="-1" strike="noStrike">
                <a:solidFill>
                  <a:srgbClr val="000000"/>
                </a:solidFill>
                <a:latin typeface="Arial"/>
              </a:rPr>
              <a:t>: Contrato entre ausente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comunicación por ordenadores es instantánea, por lo que el contrato es asimilable a los contratos entre presentes (art. 1150, Cód. Civil), y por ello no se considerará concluido sino por la aceptación inmediata…En cuanto a determinar cuál es el lugar donde se plasman ambas voluntades, de las que surge el vínculo contractual, debe entenderse que lo es donde se emite la aceptación (art. 1154, Cód. Civil)”.</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Farina Juan M. “Contratos comerciales modernos”. Editorial Astrea. 1999. Pag. 109-110)</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9F3C-EEA2-4172-9ADD-2D769014A040}"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ontratos celebrados entre computadoras o dispositivos automáticos</a:t>
            </a:r>
            <a:r>
              <a:rPr b="0" lang="es-MX" sz="4000" spc="-1" strike="noStrike">
                <a:solidFill>
                  <a:srgbClr val="000000"/>
                </a:solidFill>
                <a:latin typeface="Arial"/>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gn="just">
              <a:lnSpc>
                <a:spcPct val="9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Diversas alternativas teóricas</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Tratar a la computadora como una persona jurídica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Asignarle el carácter de una mera máquina: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exceptuar el requisito de la voluntad del agente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 Ficción que las comunicaciones entre computadoras derivan realmente de un controlador human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 Negar la validez de tales transaccion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so norteamericano </a:t>
            </a:r>
            <a:r>
              <a:rPr b="0" lang="es-MX" sz="2400" spc="-1" strike="noStrike">
                <a:solidFill>
                  <a:srgbClr val="008000"/>
                </a:solidFill>
                <a:latin typeface="Arial"/>
              </a:rPr>
              <a:t>“Star Farm Mutual Auto Ins. Co. v. Bockhurst”</a:t>
            </a:r>
            <a:r>
              <a:rPr b="0" lang="es-MX" sz="2400" spc="-1" strike="noStrike">
                <a:solidFill>
                  <a:srgbClr val="000000"/>
                </a:solidFill>
                <a:latin typeface="Arial"/>
              </a:rPr>
              <a:t> (453 F2d. 533 – 1th Cir. 1972): Se resolvió que una compañía de seguros se obliga por la respuesta automática otorgada a la solicitud de renovación de la póliza, ya que la computadora obra de acuerdo con la información y las instrucciones de su oper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22ED-75D2-4C5B-9916-DBAD90EBE3A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3399"/>
                </a:solidFill>
                <a:latin typeface="Arial"/>
              </a:rPr>
              <a:t>Objeto del Contrato Electrónico</a:t>
            </a:r>
            <a:endParaRPr b="0" lang="en-US" sz="4400" spc="-1" strike="noStrike">
              <a:solidFill>
                <a:srgbClr val="000000"/>
              </a:solidFill>
              <a:latin typeface="Arial"/>
            </a:endParaRPr>
          </a:p>
        </p:txBody>
      </p:sp>
      <p:sp>
        <p:nvSpPr>
          <p:cNvPr id="12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íc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sea contrario a la moral y a las buenas costumbr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terial y jurídicamente posible </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Prestaciones:</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99"/>
                </a:solidFill>
                <a:latin typeface="Arial"/>
              </a:rPr>
              <a:t>a) materiales</a:t>
            </a:r>
            <a:r>
              <a:rPr b="0" lang="es-MX" sz="3200" spc="-1" strike="noStrike">
                <a:solidFill>
                  <a:srgbClr val="000000"/>
                </a:solidFill>
                <a:latin typeface="Arial"/>
              </a:rPr>
              <a:t> (si el contrato sólo es electrónico en cuanto a la formación del consentimien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99"/>
                </a:solidFill>
                <a:latin typeface="Arial"/>
              </a:rPr>
              <a:t>b) electrónicas</a:t>
            </a:r>
            <a:r>
              <a:rPr b="0" lang="es-MX" sz="3200" spc="-1" strike="noStrike">
                <a:solidFill>
                  <a:srgbClr val="000000"/>
                </a:solidFill>
                <a:latin typeface="Arial"/>
              </a:rPr>
              <a:t> (bienes o servicios electrón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9D76-7FC5-4F86-A56C-3E59AEBFECB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9900"/>
                </a:solidFill>
                <a:latin typeface="Arial"/>
              </a:rPr>
              <a:t>¿Qué es el Comercio Electrónico?</a:t>
            </a:r>
            <a:endParaRPr b="0" lang="en-US" sz="4000" spc="-1" strike="noStrike">
              <a:solidFill>
                <a:srgbClr val="000000"/>
              </a:solidFill>
              <a:latin typeface="Arial"/>
            </a:endParaRPr>
          </a:p>
        </p:txBody>
      </p:sp>
      <p:sp>
        <p:nvSpPr>
          <p:cNvPr id="55" name="PlaceHolder 2"/>
          <p:cNvSpPr>
            <a:spLocks noGrp="1"/>
          </p:cNvSpPr>
          <p:nvPr>
            <p:ph/>
          </p:nvPr>
        </p:nvSpPr>
        <p:spPr>
          <a:xfrm>
            <a:off x="250560" y="1268280"/>
            <a:ext cx="8569080" cy="53294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400" spc="-1" strike="noStrike">
                <a:solidFill>
                  <a:srgbClr val="000000"/>
                </a:solidFill>
                <a:latin typeface="Arial"/>
              </a:rPr>
              <a:t>1) “Es el conjunto de transacciones comerciales y financieras realizadas por medios electrónicos. Esto es, el procesamiento y la transmisión electrónica de datos, incluyendo texto, sonido e imagen” (Primer Informe de Progreso del Grupo de Trabajo sobre Comercio Electrónico y Comercio Exterior)</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2) “El comercio electrónico es aquél donde se utiliza para la comunicación y acuerdo entre las partes, el intercambio de datos, a través de medios electrónicos, electromagnéticos, ópticos u otros, de naturaleza análoga”. (Art. 641 del Código de Comercio Mexicano) </a:t>
            </a:r>
            <a:endParaRPr b="0" lang="en-US" sz="24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348F-7D66-46AF-BAF3-449930E04B1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00"/>
                </a:solidFill>
                <a:latin typeface="Arial"/>
              </a:rPr>
              <a:t>Forma de los Contratos Electrónicos</a:t>
            </a:r>
            <a:endParaRPr b="0" lang="en-US" sz="4000" spc="-1" strike="noStrike">
              <a:solidFill>
                <a:srgbClr val="000000"/>
              </a:solidFill>
              <a:latin typeface="Arial"/>
            </a:endParaRPr>
          </a:p>
        </p:txBody>
      </p:sp>
      <p:sp>
        <p:nvSpPr>
          <p:cNvPr id="13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0080"/>
                </a:solidFill>
                <a:latin typeface="Arial"/>
              </a:rPr>
              <a:t>Principio general: Libertad de Formas</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iertos contratos requieren una forma especial en carácter </a:t>
            </a:r>
            <a:r>
              <a:rPr b="0" i="1" lang="es-MX" sz="3200" spc="-1" strike="noStrike">
                <a:solidFill>
                  <a:srgbClr val="000000"/>
                </a:solidFill>
                <a:latin typeface="Arial"/>
              </a:rPr>
              <a:t>ad probationem</a:t>
            </a:r>
            <a:r>
              <a:rPr b="0" lang="es-MX" sz="3200" spc="-1" strike="noStrike">
                <a:solidFill>
                  <a:srgbClr val="000000"/>
                </a:solidFill>
                <a:latin typeface="Arial"/>
              </a:rPr>
              <a:t> o </a:t>
            </a:r>
            <a:r>
              <a:rPr b="0" i="1" lang="es-MX" sz="3200" spc="-1" strike="noStrike">
                <a:solidFill>
                  <a:srgbClr val="000000"/>
                </a:solidFill>
                <a:latin typeface="Arial"/>
              </a:rPr>
              <a:t>ad solemnitatem</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0080"/>
                </a:solidFill>
                <a:latin typeface="Arial"/>
              </a:rPr>
              <a:t>Contratos internacionales</a:t>
            </a:r>
            <a:r>
              <a:rPr b="0" lang="es-MX"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 Necesidad de una forma determinada: determinado por la </a:t>
            </a:r>
            <a:r>
              <a:rPr b="0" i="1" lang="es-MX" sz="3200" spc="-1" strike="noStrike">
                <a:solidFill>
                  <a:srgbClr val="000000"/>
                </a:solidFill>
                <a:latin typeface="Arial"/>
              </a:rPr>
              <a:t>lex contractu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b) Validez de la forma adoptada: dependerá de la </a:t>
            </a:r>
            <a:r>
              <a:rPr b="0" i="1" lang="es-MX" sz="3200" spc="-1" strike="noStrike">
                <a:solidFill>
                  <a:srgbClr val="000000"/>
                </a:solidFill>
                <a:latin typeface="Arial"/>
              </a:rPr>
              <a:t>locus regit actum.</a:t>
            </a: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A333-53FD-49CB-9DE2-51C3D7788C3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8000"/>
                </a:solidFill>
                <a:latin typeface="Arial"/>
              </a:rPr>
              <a:t>Prueba de los Contratos Electrónicos</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Arial"/>
              </a:rPr>
              <a:t>Contratos firmados electrónicamente</a:t>
            </a:r>
            <a:r>
              <a:rPr b="0" lang="es-MX" sz="3600" spc="-1" strike="noStrike">
                <a:solidFill>
                  <a:srgbClr val="000000"/>
                </a:solidFill>
                <a:latin typeface="Arial"/>
              </a:rPr>
              <a:t>: equiparados a un documento particular no firmado.</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Arial"/>
              </a:rPr>
              <a:t>Contratos firmados digitalmente</a:t>
            </a:r>
            <a:r>
              <a:rPr b="0" lang="es-MX" sz="3600" spc="-1" strike="noStrike">
                <a:solidFill>
                  <a:srgbClr val="000000"/>
                </a:solidFill>
                <a:latin typeface="Arial"/>
              </a:rPr>
              <a:t>: equiparados a un documento privado (art. 6 de la ley 25.506)</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A5D9-80FB-4A80-82E2-7FC5311BF712}"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6600"/>
                </a:solidFill>
                <a:latin typeface="Arial"/>
              </a:rPr>
              <a:t>Click Wrap Agreements</a:t>
            </a:r>
            <a:endParaRPr b="0" lang="en-US" sz="4400" spc="-1" strike="noStrike">
              <a:solidFill>
                <a:srgbClr val="000000"/>
              </a:solidFill>
              <a:latin typeface="Arial"/>
            </a:endParaRPr>
          </a:p>
        </p:txBody>
      </p:sp>
      <p:sp>
        <p:nvSpPr>
          <p:cNvPr id="138"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n los cuales el usurario sólo debe pulsar un botón de aceptación.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ble la ley de defensa al consumidor Nº 24.240 en los contratos nacionales.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llo norteamericano “</a:t>
            </a:r>
            <a:r>
              <a:rPr b="0" i="1" lang="es-MX" sz="2800" spc="-1" strike="noStrike">
                <a:solidFill>
                  <a:srgbClr val="000000"/>
                </a:solidFill>
                <a:latin typeface="Arial"/>
              </a:rPr>
              <a:t>Hotmail Corporation v. Van Money Pie Inc</a:t>
            </a:r>
            <a:r>
              <a:rPr b="0" lang="es-MX" sz="2800" spc="-1" strike="noStrike">
                <a:solidFill>
                  <a:srgbClr val="000000"/>
                </a:solidFill>
                <a:latin typeface="Arial"/>
              </a:rPr>
              <a:t>.”: Se estableció que el  usuario queda vinculado por las condiciones generales que surgen de los </a:t>
            </a:r>
            <a:r>
              <a:rPr b="0" i="1" lang="es-MX" sz="2800" spc="-1" strike="noStrike">
                <a:solidFill>
                  <a:srgbClr val="000000"/>
                </a:solidFill>
                <a:latin typeface="Arial"/>
              </a:rPr>
              <a:t>Terms of Service</a:t>
            </a:r>
            <a:r>
              <a:rPr b="0" lang="es-MX" sz="2800" spc="-1" strike="noStrike">
                <a:solidFill>
                  <a:srgbClr val="000000"/>
                </a:solidFill>
                <a:latin typeface="Arial"/>
              </a:rPr>
              <a:t>, ya que al pulsar el botón </a:t>
            </a:r>
            <a:r>
              <a:rPr b="0" i="1" lang="es-MX" sz="2800" spc="-1" strike="noStrike">
                <a:solidFill>
                  <a:srgbClr val="000000"/>
                </a:solidFill>
                <a:latin typeface="Arial"/>
              </a:rPr>
              <a:t>I AGREE</a:t>
            </a:r>
            <a:r>
              <a:rPr b="0" lang="es-MX" sz="2800" spc="-1" strike="noStrike">
                <a:solidFill>
                  <a:srgbClr val="000000"/>
                </a:solidFill>
                <a:latin typeface="Arial"/>
              </a:rPr>
              <a:t> (yo acepto) tuvo oportunidad de leerla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nión Europea: Se ha sancionado la Directiva 97/7/CE relativa a la protección de los consumidores en materia de contratos a dista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E861F-8FA5-4280-9A29-422CCF6B3CA5}"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Contratos celebrados por Internet</a:t>
            </a:r>
            <a:endParaRPr b="0" lang="en-US" sz="4000" spc="-1" strike="noStrike">
              <a:solidFill>
                <a:srgbClr val="000000"/>
              </a:solidFill>
              <a:latin typeface="Arial"/>
            </a:endParaRPr>
          </a:p>
        </p:txBody>
      </p:sp>
      <p:sp>
        <p:nvSpPr>
          <p:cNvPr id="141" name="PlaceHolder 2"/>
          <p:cNvSpPr>
            <a:spLocks noGrp="1"/>
          </p:cNvSpPr>
          <p:nvPr>
            <p:ph/>
          </p:nvPr>
        </p:nvSpPr>
        <p:spPr>
          <a:xfrm>
            <a:off x="457200" y="981000"/>
            <a:ext cx="822960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host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creación y mantenimiento de página We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operador de sistema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publicidad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locación publicitaria en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suministro de informació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para acceso a bases de datos en lín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edición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estudio de mercado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intermediación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desarrollo de productos multimedia en lín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distribución por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participantes en un foro en lín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2B4C-AB7F-4FD3-896E-934937E9D6BB}"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99"/>
                </a:solidFill>
                <a:latin typeface="Arial"/>
              </a:rPr>
              <a:t>¿Qué es un Contrato Informátic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contrato cuyo objeto consiste en un bien y/o servicio informático.</a:t>
            </a:r>
            <a:endParaRPr b="0" lang="en-US" sz="32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99"/>
                </a:solidFill>
                <a:latin typeface="Arial"/>
              </a:rPr>
              <a:t>Bienes Informáticos</a:t>
            </a:r>
            <a:r>
              <a:rPr b="0" lang="es-MX" sz="2800" spc="-1" strike="noStrike">
                <a:solidFill>
                  <a:srgbClr val="000000"/>
                </a:solidFill>
                <a:latin typeface="Arial"/>
              </a:rPr>
              <a:t>: Incluye todos los elementos materiales del Hardware (todo lo que configura el soporte físico del ordenador), y todos los bienes inmateriales que conforman el Software (datos o procedimientos que conforman el elemento lógico del soporte informátic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C6B3-0B4D-4F56-AD5E-DEC23AA3F289}"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Mecanismos Electrónicos de Pago</a:t>
            </a:r>
            <a:endParaRPr b="0" lang="en-US" sz="4000" spc="-1" strike="noStrike">
              <a:solidFill>
                <a:srgbClr val="000000"/>
              </a:solidFill>
              <a:latin typeface="Arial"/>
            </a:endParaRPr>
          </a:p>
        </p:txBody>
      </p:sp>
      <p:sp>
        <p:nvSpPr>
          <p:cNvPr id="147" name="PlaceHolder 2"/>
          <p:cNvSpPr>
            <a:spLocks noGrp="1"/>
          </p:cNvSpPr>
          <p:nvPr>
            <p:ph/>
          </p:nvPr>
        </p:nvSpPr>
        <p:spPr>
          <a:xfrm>
            <a:off x="250920" y="1268280"/>
            <a:ext cx="8642160" cy="51134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ª Etapa: Transacciones se realizaban por Internet pero los pagos se realizaban en forma externa.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ª Etapa: Nace SWIFT (Society for World-Wide Interbank Communication): Red privada interbancaria para transacciones financieras digitales entre bancos.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ª Etapa: Pagos en red a través de Tarjetas de Crédito o Transferencias de Diner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ª Etapa: Surgimiento de los Intermediarios Electrónicos y Cheques Digitales. </a:t>
            </a:r>
            <a:endParaRPr b="0" lang="en-US" sz="2400" spc="-1" strike="noStrike">
              <a:solidFill>
                <a:srgbClr val="000000"/>
              </a:solidFill>
              <a:latin typeface="Arial"/>
            </a:endParaRPr>
          </a:p>
          <a:p>
            <a:pPr marL="343080" indent="-343080" algn="just">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cc6600"/>
                </a:solidFill>
                <a:uFillTx/>
                <a:latin typeface="Arial"/>
              </a:rPr>
              <a:t>Banca Electrónica</a:t>
            </a:r>
            <a:r>
              <a:rPr b="0" lang="es-MX" sz="2400" spc="-1" strike="noStrike">
                <a:solidFill>
                  <a:srgbClr val="000000"/>
                </a:solidFill>
                <a:latin typeface="Arial"/>
              </a:rPr>
              <a:t>: Sistema por el cual el usuario opera su cuenta desde su domicilio mediante una terminal de computadora, con un código personal (PIN). </a:t>
            </a:r>
            <a:endParaRPr b="0" lang="en-US" sz="24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tajas: gana tiempo y reduce el costo por operación en el mediano plazo.</a:t>
            </a:r>
            <a:r>
              <a:rPr b="0" lang="es-MX"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A58B-1156-4CF3-B57F-FFC4D60F64B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p:nvPr>
        </p:nvSpPr>
        <p:spPr>
          <a:xfrm>
            <a:off x="457200" y="259920"/>
            <a:ext cx="8229600" cy="6264360"/>
          </a:xfrm>
          <a:prstGeom prst="rect">
            <a:avLst/>
          </a:prstGeom>
          <a:noFill/>
          <a:ln w="0">
            <a:noFill/>
          </a:ln>
        </p:spPr>
        <p:txBody>
          <a:bodyPr anchor="t">
            <a:normAutofit/>
          </a:bodyPr>
          <a:p>
            <a:pPr marL="609480" indent="-609480">
              <a:lnSpc>
                <a:spcPct val="80000"/>
              </a:lnSpc>
              <a:spcBef>
                <a:spcPts val="799"/>
              </a:spcBef>
              <a:buClr>
                <a:srgbClr val="0099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9900"/>
                </a:solidFill>
                <a:latin typeface="Arial"/>
              </a:rPr>
              <a:t>Tarjetas de Créd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e utilizan </a:t>
            </a:r>
            <a:r>
              <a:rPr b="0" lang="es-MX" sz="2600" spc="-1" strike="noStrike" u="sng">
                <a:solidFill>
                  <a:srgbClr val="000099"/>
                </a:solidFill>
                <a:uFillTx/>
                <a:latin typeface="Arial"/>
              </a:rPr>
              <a:t>sistemas de encriptación</a:t>
            </a:r>
            <a:r>
              <a:rPr b="0" lang="es-MX" sz="2600" spc="-1" strike="noStrike">
                <a:solidFill>
                  <a:srgbClr val="000000"/>
                </a:solidFill>
                <a:latin typeface="Arial"/>
              </a:rPr>
              <a:t>, entre los que se destacan SSL (Secure Sockets Layer), creado por Netscape, y SET (Transacciones Electrónicas Seguras), creado por Visa y MasterCard, con el apoyo de otras instituciones financieras. </a:t>
            </a:r>
            <a:endParaRPr b="0" lang="en-US" sz="2600" spc="-1" strike="noStrike">
              <a:solidFill>
                <a:srgbClr val="000000"/>
              </a:solidFill>
              <a:latin typeface="Arial"/>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just">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99"/>
                </a:solidFill>
                <a:uFillTx/>
                <a:latin typeface="Arial"/>
              </a:rPr>
              <a:t>Ley 25.065</a:t>
            </a:r>
            <a:r>
              <a:rPr b="0" lang="es-MX" sz="2600" spc="-1" strike="noStrike">
                <a:solidFill>
                  <a:srgbClr val="000000"/>
                </a:solidFill>
                <a:latin typeface="Arial"/>
              </a:rPr>
              <a:t> de tarjeta de crédito: contiene normas de orden público: nulidad de ciertas cláusulas abusivas, límites a los intereses compensatorios y punitorios que pueden cobrar las entidades que emitan las tarjetas, un sistema de impugnación de resúmenes de cuenta, y la prohibición de las cláusulas exonerativas de responsabilidad o la renuncia de derechos por parte del titular.</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A76E-7718-41BC-B26C-4474F323FD38}"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476280"/>
            <a:ext cx="8229600" cy="6121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9900"/>
                </a:solidFill>
                <a:latin typeface="Arial"/>
              </a:rPr>
              <a:t>B) Intermediarios Electrónic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usuarios del sistema que poseen un código de identificación pueden realizar transacciones y pagos en la red utilizando dicha identificación, y la empresa descuenta el monto de la tarjeta de crédito del usuario (Ej: First Virtual Holdings Incorporated, Paypal, Paynow, Netcheque, Netchex, Echeck)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heques electrónicos o digit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737B-9319-4AFC-A882-606257AF700A}"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250560" y="260280"/>
            <a:ext cx="8569080" cy="5865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9900"/>
                </a:solidFill>
                <a:latin typeface="Arial"/>
              </a:rPr>
              <a:t>C) Dinero Virtual</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cliente deposita, adquiere o consigna por adelantado el monto por el cual desea operar y a cambio recibe una tarjeta (card based system) o una clave (software based system) en donde se registran los valores o fondos disponibles (Ej: DigiCash)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entaja: Poder asegurar la confidencialidad y anonimato de las partes que participan de la transacció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C212-DC30-47C9-94C3-AB3B0DD5423A}"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68360" y="259920"/>
            <a:ext cx="8229600" cy="59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800080"/>
                </a:solidFill>
                <a:latin typeface="Arial"/>
              </a:rPr>
              <a:t>Comercio Electrónico por Internet</a:t>
            </a:r>
            <a:endParaRPr b="0" lang="en-US" sz="3600" spc="-1" strike="noStrike">
              <a:solidFill>
                <a:srgbClr val="000000"/>
              </a:solidFill>
              <a:latin typeface="Arial"/>
            </a:endParaRPr>
          </a:p>
        </p:txBody>
      </p:sp>
      <p:sp>
        <p:nvSpPr>
          <p:cNvPr id="58" name="PlaceHolder 2"/>
          <p:cNvSpPr>
            <a:spLocks noGrp="1"/>
          </p:cNvSpPr>
          <p:nvPr>
            <p:ph/>
          </p:nvPr>
        </p:nvSpPr>
        <p:spPr>
          <a:xfrm>
            <a:off x="323640" y="1052640"/>
            <a:ext cx="8569080" cy="54720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s el sistema global que, utilizando redes informáticas y en particular Internet, permite la creación de un mercado electrónico (es decir operado por computadoras) y a distancia de todo tipo de productos, servicios, tecnologías y bienes, y que incluye todas las operaciones necesarias para concretar operaciones de compra y venta, incluyendo matching, negociación, información de referencia comercial, intercambio documentos, acceso a la información de servicios de apoyo (aranceles, seguros, transportes, etc.) el banking de apoyo y todo en condiciones de seguridad y confidencialidad necesarios”. (Primer informe de Progreso del Grupo de Trabajo sobre Comercio Electrónico y Comercio Exteri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8CD3-74D2-4AAA-AF9D-931D9850C34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Características del Comercio Electrónico por Internet</a:t>
            </a:r>
            <a:r>
              <a:rPr b="0" lang="es-MX" sz="3200" spc="-1" strike="noStrike">
                <a:solidFill>
                  <a:srgbClr val="000099"/>
                </a:solidFill>
                <a:latin typeface="Arial"/>
              </a:rPr>
              <a:t> </a:t>
            </a:r>
            <a:endParaRPr b="0" lang="en-US" sz="3200" spc="-1" strike="noStrike">
              <a:solidFill>
                <a:srgbClr val="000000"/>
              </a:solidFill>
              <a:latin typeface="Arial"/>
            </a:endParaRPr>
          </a:p>
        </p:txBody>
      </p:sp>
      <p:sp>
        <p:nvSpPr>
          <p:cNvPr id="61"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ticipan todo tipo de individuos, conocidos o desconocidos, ya sea personas físicas o entidades públicas o privada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ercado relevante es potencialmente infinito (expansión ilimitada)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ecesidad utilizar métodos de seguridad (firma digi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7F75-70AD-4CCC-854D-866FE24616B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9900"/>
                </a:solidFill>
                <a:latin typeface="Arial"/>
              </a:rPr>
              <a:t>Clasificación del Comercio Electrónico</a:t>
            </a:r>
            <a:endParaRPr b="0" lang="en-US" sz="3600" spc="-1" strike="noStrike">
              <a:solidFill>
                <a:srgbClr val="000000"/>
              </a:solidFill>
              <a:latin typeface="Arial"/>
            </a:endParaRPr>
          </a:p>
        </p:txBody>
      </p:sp>
      <p:sp>
        <p:nvSpPr>
          <p:cNvPr id="64" name="PlaceHolder 2"/>
          <p:cNvSpPr>
            <a:spLocks noGrp="1"/>
          </p:cNvSpPr>
          <p:nvPr>
            <p:ph/>
          </p:nvPr>
        </p:nvSpPr>
        <p:spPr>
          <a:xfrm>
            <a:off x="457200" y="907560"/>
            <a:ext cx="8229600" cy="5689800"/>
          </a:xfrm>
          <a:prstGeom prst="rect">
            <a:avLst/>
          </a:prstGeom>
          <a:noFill/>
          <a:ln w="0">
            <a:noFill/>
          </a:ln>
        </p:spPr>
        <p:txBody>
          <a:bodyPr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333399"/>
                </a:solidFill>
                <a:uFillTx/>
                <a:latin typeface="Arial"/>
              </a:rPr>
              <a:t>Comercio electrónico directo</a:t>
            </a:r>
            <a:r>
              <a:rPr b="0" lang="es-MX" sz="2400" spc="-1" strike="noStrike">
                <a:solidFill>
                  <a:srgbClr val="000000"/>
                </a:solidFill>
                <a:latin typeface="Arial"/>
              </a:rPr>
              <a:t>: Es aquel en el cual tanto el pedido como el pago y el envío de los bienes intangibles o tangibles y/o servicios inclusive, se producen ‘on-line’, como es el caso de transacciones u operaciones vinculadas con viajes, venta de boletos (teatros, conciertos, etc.), software, toda la rama de entretenimientos (música, juegos, apuestas), servicio de banca, venta de inmuebles, asesoría legal, consejos de salud, temas de educación y servicios por parte del Gobiern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333399"/>
                </a:solidFill>
                <a:uFillTx/>
                <a:latin typeface="Arial"/>
              </a:rPr>
              <a:t>Comercio electrónico indirecto</a:t>
            </a:r>
            <a:r>
              <a:rPr b="0" lang="es-MX" sz="2400" spc="-1" strike="noStrike">
                <a:solidFill>
                  <a:srgbClr val="000000"/>
                </a:solidFill>
                <a:latin typeface="Arial"/>
              </a:rPr>
              <a:t>: Consiste en adquirir bienes tangibles que necesitan luego ser enviados físicamente, utilizando para ello los canales o vías tradicionales de distribución.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600" spc="-1" strike="noStrike">
                <a:solidFill>
                  <a:srgbClr val="000000"/>
                </a:solidFill>
                <a:latin typeface="Arial"/>
              </a:rPr>
              <a:t>(Ruiz Huidobro, Alfredo Gildemeister. El derecho tributario del siglo XXI: Problemática del Comercio Electrónico y los principios del Derecho Tributario Internacional).</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1B37-0A61-4458-8504-FEFB4F1BED3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Ventajas del Comercio Electrónico</a:t>
            </a:r>
            <a:endParaRPr b="0" lang="en-US" sz="4000" spc="-1" strike="noStrike">
              <a:solidFill>
                <a:srgbClr val="000000"/>
              </a:solidFill>
              <a:latin typeface="Arial"/>
            </a:endParaRPr>
          </a:p>
        </p:txBody>
      </p:sp>
      <p:sp>
        <p:nvSpPr>
          <p:cNvPr id="67" name="PlaceHolder 2"/>
          <p:cNvSpPr>
            <a:spLocks noGrp="1"/>
          </p:cNvSpPr>
          <p:nvPr>
            <p:ph/>
          </p:nvPr>
        </p:nvSpPr>
        <p:spPr>
          <a:xfrm>
            <a:off x="468360" y="1844640"/>
            <a:ext cx="8229600" cy="3889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Rapidez en el medio utilizad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Reducción de costo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saparición de intermediario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cceso de entrada irrestric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mpliación del mercado releva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7F10-7299-4537-BB42-5153CA7403F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6600"/>
                </a:solidFill>
                <a:latin typeface="Arial"/>
              </a:rPr>
              <a:t>Desventajas del Comercio Electrónico</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yor desocup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ficultad en identificar a las par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iesgos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ransacción no queda registr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ficultades probatorias de los nego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47D0-8BF3-4771-B9D2-1AD3FFE35D39}"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99"/>
                </a:solidFill>
                <a:latin typeface="Arial"/>
              </a:rPr>
              <a:t>Transacciones que pueden realizarse por Interne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mpra o locación de bi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cación de servici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ministro de información en líne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blicida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uegos y apuest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provisionamiento electrónic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procur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bastas electrónicas (e-au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2T15:46:34Z</dcterms:created>
  <dc:creator>Fernando Tupa</dc:creator>
  <dc:description/>
  <dc:language>en-US</dc:language>
  <cp:lastModifiedBy>USUARIO</cp:lastModifiedBy>
  <dcterms:modified xsi:type="dcterms:W3CDTF">2010-06-04T22:33:12Z</dcterms:modified>
  <cp:revision>37</cp:revision>
  <dc:subject/>
  <dc:title>COMERCIO ELECTRONICO</dc:title>
</cp:coreProperties>
</file>